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448-2644-4146-A568-998D16E5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524-DF27-4853-9AAB-09C1F080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884-DF6F-4B1F-859C-BAFB3AB3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F15-B3B8-4983-9334-A2B468BA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AB3-F146-4EEB-B554-A438BBB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B76-150C-496E-8B02-EC927717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297-6F40-421D-82AC-0A7CF2E1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2E6-78EC-479D-8D39-E7885640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C68-697D-431D-86F2-DB37D6BF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916-1605-43D0-A8A4-BC53C180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2B7-7F94-472D-8B3F-6C50947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594-A6B5-4498-999D-EB039096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6DA4-87D0-413C-BDC5-F46BB7EC6E1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Vocales\Desktop\Intervencion de Homero Acosta\Presentacion\1.jpg"/>
          <p:cNvPicPr/>
          <p:nvPr/>
        </p:nvPicPr>
        <p:blipFill>
          <a:blip r:embed="rId1"/>
          <a:stretch/>
        </p:blipFill>
        <p:spPr>
          <a:xfrm>
            <a:off x="395280" y="117360"/>
            <a:ext cx="84708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F:\Intervencion de Homero Acosta\Presentacion\10.jpg"/>
          <p:cNvPicPr/>
          <p:nvPr/>
        </p:nvPicPr>
        <p:blipFill>
          <a:blip r:embed="rId1"/>
          <a:stretch/>
        </p:blipFill>
        <p:spPr>
          <a:xfrm>
            <a:off x="130320" y="115920"/>
            <a:ext cx="883440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F:\Intervencion de Homero Acosta\Presentacion\11.jpg"/>
          <p:cNvPicPr/>
          <p:nvPr/>
        </p:nvPicPr>
        <p:blipFill>
          <a:blip r:embed="rId1"/>
          <a:stretch/>
        </p:blipFill>
        <p:spPr>
          <a:xfrm>
            <a:off x="192240" y="189000"/>
            <a:ext cx="8772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F:\Intervencion de Homero Acosta\Presentacion\12.jpg"/>
          <p:cNvPicPr/>
          <p:nvPr/>
        </p:nvPicPr>
        <p:blipFill>
          <a:blip r:embed="rId1"/>
          <a:stretch/>
        </p:blipFill>
        <p:spPr>
          <a:xfrm>
            <a:off x="250920" y="228600"/>
            <a:ext cx="86598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F:\Intervencion de Homero Acosta\Presentacion\13.jpg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F:\Intervencion de Homero Acosta\Presentacion\14.jpg"/>
          <p:cNvPicPr/>
          <p:nvPr/>
        </p:nvPicPr>
        <p:blipFill>
          <a:blip r:embed="rId1"/>
          <a:stretch/>
        </p:blipFill>
        <p:spPr>
          <a:xfrm>
            <a:off x="152280" y="189000"/>
            <a:ext cx="88124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F:\Intervencion de Homero Acosta\Presentacion\15.jpg"/>
          <p:cNvPicPr/>
          <p:nvPr/>
        </p:nvPicPr>
        <p:blipFill>
          <a:blip r:embed="rId1"/>
          <a:stretch/>
        </p:blipFill>
        <p:spPr>
          <a:xfrm>
            <a:off x="108000" y="263520"/>
            <a:ext cx="88567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F:\Intervencion de Homero Acosta\Presentacion\16.jpg"/>
          <p:cNvPicPr/>
          <p:nvPr/>
        </p:nvPicPr>
        <p:blipFill>
          <a:blip r:embed="rId1"/>
          <a:stretch/>
        </p:blipFill>
        <p:spPr>
          <a:xfrm>
            <a:off x="108000" y="333360"/>
            <a:ext cx="89280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F:\Intervencion de Homero Acosta\Presentacion\17.jpg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F:\Intervencion de Homero Acosta\Presentacion\18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F:\Intervencion de Homero Acosta\Presentacion\19.jpg"/>
          <p:cNvPicPr/>
          <p:nvPr/>
        </p:nvPicPr>
        <p:blipFill>
          <a:blip r:embed="rId1"/>
          <a:stretch/>
        </p:blipFill>
        <p:spPr>
          <a:xfrm>
            <a:off x="250920" y="6516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Vocales\Desktop\Intervencion de Homero Acosta\Presentacion\2.jpg"/>
          <p:cNvPicPr/>
          <p:nvPr/>
        </p:nvPicPr>
        <p:blipFill>
          <a:blip r:embed="rId1"/>
          <a:stretch/>
        </p:blipFill>
        <p:spPr>
          <a:xfrm>
            <a:off x="250920" y="115920"/>
            <a:ext cx="84628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F:\Intervencion de Homero Acosta\Presentacion\20.jpg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F:\Intervencion de Homero Acosta\Presentacion\21.jpg"/>
          <p:cNvPicPr/>
          <p:nvPr/>
        </p:nvPicPr>
        <p:blipFill>
          <a:blip r:embed="rId1"/>
          <a:stretch/>
        </p:blipFill>
        <p:spPr>
          <a:xfrm>
            <a:off x="168120" y="189000"/>
            <a:ext cx="88678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F:\Intervencion de Homero Acosta\Presentacion\22.jpg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F:\Intervencion de Homero Acosta\Presentacion\23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F:\Intervencion de Homero Acosta\Presentacion\24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F:\Intervencion de Homero Acosta\Presentacion\25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F:\Intervencion de Homero Acosta\Presentacion\26.jpg"/>
          <p:cNvPicPr/>
          <p:nvPr/>
        </p:nvPicPr>
        <p:blipFill>
          <a:blip r:embed="rId1"/>
          <a:stretch/>
        </p:blipFill>
        <p:spPr>
          <a:xfrm>
            <a:off x="192240" y="189000"/>
            <a:ext cx="8772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F:\Intervencion de Homero Acosta\Presentacion\27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F:\Intervencion de Homero Acosta\Presentacion\28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F:\Intervencion de Homero Acosta\Presentacion\29.jpg"/>
          <p:cNvPicPr/>
          <p:nvPr/>
        </p:nvPicPr>
        <p:blipFill>
          <a:blip r:embed="rId1"/>
          <a:stretch/>
        </p:blipFill>
        <p:spPr>
          <a:xfrm>
            <a:off x="203040" y="160200"/>
            <a:ext cx="8713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Vocales\Desktop\Intervencion de Homero Acosta\Presentacion\3.jpg"/>
          <p:cNvPicPr/>
          <p:nvPr/>
        </p:nvPicPr>
        <p:blipFill>
          <a:blip r:embed="rId1"/>
          <a:stretch/>
        </p:blipFill>
        <p:spPr>
          <a:xfrm>
            <a:off x="395280" y="250920"/>
            <a:ext cx="85215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F:\Intervencion de Homero Acosta\Presentacion\30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F:\Intervencion de Homero Acosta\Presentacion\31.jpg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F:\Intervencion de Homero Acosta\Presentacion\32.jpg"/>
          <p:cNvPicPr/>
          <p:nvPr/>
        </p:nvPicPr>
        <p:blipFill>
          <a:blip r:embed="rId1"/>
          <a:stretch/>
        </p:blipFill>
        <p:spPr>
          <a:xfrm>
            <a:off x="277920" y="115920"/>
            <a:ext cx="864072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F:\Intervencion de Homero Acosta\Presentacion\33.jpg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F:\Intervencion de Homero Acosta\Presentacion\34.jpg"/>
          <p:cNvPicPr/>
          <p:nvPr/>
        </p:nvPicPr>
        <p:blipFill>
          <a:blip r:embed="rId1"/>
          <a:stretch/>
        </p:blipFill>
        <p:spPr>
          <a:xfrm>
            <a:off x="176040" y="115920"/>
            <a:ext cx="88599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F:\Intervencion de Homero Acosta\Presentacion\35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F:\Intervencion de Homero Acosta\Presentacion\36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F:\Intervencion de Homero Acosta\Presentacion\37.jpg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F:\Intervencion de Homero Acosta\Presentacion\38.jpg"/>
          <p:cNvPicPr/>
          <p:nvPr/>
        </p:nvPicPr>
        <p:blipFill>
          <a:blip r:embed="rId1"/>
          <a:stretch/>
        </p:blipFill>
        <p:spPr>
          <a:xfrm>
            <a:off x="108000" y="189000"/>
            <a:ext cx="885672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F:\Intervencion de Homero Acosta\Presentacion\39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Vocales\Desktop\Intervencion de Homero Acosta\Presentacion\4.jpg"/>
          <p:cNvPicPr/>
          <p:nvPr/>
        </p:nvPicPr>
        <p:blipFill>
          <a:blip r:embed="rId1"/>
          <a:stretch/>
        </p:blipFill>
        <p:spPr>
          <a:xfrm>
            <a:off x="250920" y="115920"/>
            <a:ext cx="8669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F:\Intervencion de Homero Acosta\Presentacion\40.jpg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F:\Intervencion de Homero Acosta\Presentacion\41.jpg"/>
          <p:cNvPicPr/>
          <p:nvPr/>
        </p:nvPicPr>
        <p:blipFill>
          <a:blip r:embed="rId1"/>
          <a:stretch/>
        </p:blipFill>
        <p:spPr>
          <a:xfrm>
            <a:off x="179280" y="187200"/>
            <a:ext cx="878544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F:\Intervencion de Homero Acosta\Presentacion\42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F:\Intervencion de Homero Acosta\Presentacion\43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F:\Intervencion de Homero Acosta\Presentacion\44.jpg"/>
          <p:cNvPicPr/>
          <p:nvPr/>
        </p:nvPicPr>
        <p:blipFill>
          <a:blip r:embed="rId1"/>
          <a:stretch/>
        </p:blipFill>
        <p:spPr>
          <a:xfrm>
            <a:off x="217440" y="149400"/>
            <a:ext cx="88185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F:\Intervencion de Homero Acosta\Presentacion\45.jpg"/>
          <p:cNvPicPr/>
          <p:nvPr/>
        </p:nvPicPr>
        <p:blipFill>
          <a:blip r:embed="rId1"/>
          <a:stretch/>
        </p:blipFill>
        <p:spPr>
          <a:xfrm>
            <a:off x="227160" y="115920"/>
            <a:ext cx="873756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F:\Intervencion de Homero Acosta\Presentacion\46.jpg"/>
          <p:cNvPicPr/>
          <p:nvPr/>
        </p:nvPicPr>
        <p:blipFill>
          <a:blip r:embed="rId1"/>
          <a:stretch/>
        </p:blipFill>
        <p:spPr>
          <a:xfrm>
            <a:off x="250920" y="219240"/>
            <a:ext cx="87138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F:\Intervencion de Homero Acosta\Presentacion\47.jpg"/>
          <p:cNvPicPr/>
          <p:nvPr/>
        </p:nvPicPr>
        <p:blipFill>
          <a:blip r:embed="rId1"/>
          <a:stretch/>
        </p:blipFill>
        <p:spPr>
          <a:xfrm>
            <a:off x="141120" y="189000"/>
            <a:ext cx="889488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F:\Intervencion de Homero Acosta\Presentacion\48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F:\Intervencion de Homero Acosta\Presentacion\49.jpg"/>
          <p:cNvPicPr/>
          <p:nvPr/>
        </p:nvPicPr>
        <p:blipFill>
          <a:blip r:embed="rId1"/>
          <a:stretch/>
        </p:blipFill>
        <p:spPr>
          <a:xfrm>
            <a:off x="324000" y="260280"/>
            <a:ext cx="8712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Vocales\Desktop\Intervencion de Homero Acosta\Presentacion\5.jpg"/>
          <p:cNvPicPr/>
          <p:nvPr/>
        </p:nvPicPr>
        <p:blipFill>
          <a:blip r:embed="rId1"/>
          <a:stretch/>
        </p:blipFill>
        <p:spPr>
          <a:xfrm>
            <a:off x="324000" y="174600"/>
            <a:ext cx="8569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F:\Intervencion de Homero Acosta\Presentacion\50.jpg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F:\Intervencion de Homero Acosta\Presentacion\51.jpg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F:\Intervencion de Homero Acosta\Presentacion\52.jpg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F:\Intervencion de Homero Acosta\Presentacion\53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F:\Intervencion de Homero Acosta\Presentacion\54.jpg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F:\Intervencion de Homero Acosta\Presentacion\55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Intervencion de Homero Acosta\Presentacion\56.jpg"/>
          <p:cNvPicPr/>
          <p:nvPr/>
        </p:nvPicPr>
        <p:blipFill>
          <a:blip r:embed="rId1"/>
          <a:stretch/>
        </p:blipFill>
        <p:spPr>
          <a:xfrm>
            <a:off x="250920" y="206280"/>
            <a:ext cx="8713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Intervencion de Homero Acosta\Presentacion\57.jpg"/>
          <p:cNvPicPr/>
          <p:nvPr/>
        </p:nvPicPr>
        <p:blipFill>
          <a:blip r:embed="rId1"/>
          <a:stretch/>
        </p:blipFill>
        <p:spPr>
          <a:xfrm>
            <a:off x="334800" y="189000"/>
            <a:ext cx="86299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Intervencion de Homero Acosta\Presentacion\58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Intervencion de Homero Acosta\Presentacion\59.jpg"/>
          <p:cNvPicPr/>
          <p:nvPr/>
        </p:nvPicPr>
        <p:blipFill>
          <a:blip r:embed="rId1"/>
          <a:stretch/>
        </p:blipFill>
        <p:spPr>
          <a:xfrm>
            <a:off x="185760" y="189000"/>
            <a:ext cx="87073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Vocales\Desktop\Intervencion de Homero Acosta\Presentacion\6.jpg"/>
          <p:cNvPicPr/>
          <p:nvPr/>
        </p:nvPicPr>
        <p:blipFill>
          <a:blip r:embed="rId1"/>
          <a:stretch/>
        </p:blipFill>
        <p:spPr>
          <a:xfrm>
            <a:off x="111240" y="189000"/>
            <a:ext cx="8920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Vocales\Desktop\Intervencion de Homero Acosta\Presentacion\7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ocales\Desktop\Intervencion de Homero Acosta\Presentacion\8.jpg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F:\Intervencion de Homero Acosta\Presentacion\9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09:54:32Z</dcterms:created>
  <dc:creator>Vocales</dc:creator>
  <dc:description/>
  <dc:language>en-US</dc:language>
  <cp:lastModifiedBy>Vocales</cp:lastModifiedBy>
  <dcterms:modified xsi:type="dcterms:W3CDTF">2018-08-09T10:25:30Z</dcterms:modified>
  <cp:revision>4</cp:revision>
  <dc:subject/>
  <dc:title>Presentación de PowerPoint</dc:title>
</cp:coreProperties>
</file>